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EF30-2E9B-4565-B817-FD23EDFAB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s use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finger 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fingers liq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fingers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E7E7-3762-4707-B1A8-4AB80F767C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604B-A726-41F1-84D6-0825639F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815C-871D-4F5C-9F82-8DA340F7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516A-3F24-449C-A70E-0F0126D3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496D-E403-4605-A0A5-4511A6E8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C74C-03A4-48F9-9F40-17B61451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706D-06DF-40FB-B42C-4D991956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B3A0-DEBE-4BFD-8F44-A80F1C49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7D0B-1311-419B-98F5-F9ADE09F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E8AE-BEC9-492C-9185-6BE3F98D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C304-81EF-4083-AC83-9F07D90F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B6FA-628C-4C49-B55C-9DB50B6C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7343-DA1A-4A9D-93CA-5D68DFEF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0915-748D-4146-8080-283958AA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E2F9-1E5B-4FE4-A1B5-DCFDFADF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3574-FF82-4EA4-A8AB-633CB17B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425A-9569-4377-BF0B-F9132758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9A11-2A3A-404B-93D3-B124D3AD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FAEA-DA41-44E3-99B8-343A6351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5EB5-557E-413A-BC0F-975094C3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AF86-2A98-4EEC-916B-F81A1DCB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F4B8-1894-4C1D-AA51-1CBF31F2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D0F9-7B4C-4E0D-841E-CA581FAD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0C2E-C805-44E0-8B1B-FE267833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8F6C-F8A3-4BD4-A7E6-2B9BFF17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BAB5-3948-49F1-93FE-D23C16265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1F5C-4274-42FF-A88A-99001F7B9B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dentify state of matter of ite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C:\Users\Ave\AppData\Local\Microsoft\Windows\Temporary Internet Files\Content.IE5\UTNB92G0\MP900447617[1].jpg"/>
          <p:cNvPicPr/>
          <p:nvPr/>
        </p:nvPicPr>
        <p:blipFill>
          <a:blip r:embed="rId1"/>
          <a:stretch/>
        </p:blipFill>
        <p:spPr>
          <a:xfrm>
            <a:off x="1981080" y="1295280"/>
            <a:ext cx="4978440" cy="332100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9"/>
          <p:cNvGrpSpPr/>
          <p:nvPr/>
        </p:nvGrpSpPr>
        <p:grpSpPr>
          <a:xfrm>
            <a:off x="1112760" y="4495680"/>
            <a:ext cx="792360" cy="2426400"/>
            <a:chOff x="1112760" y="4495680"/>
            <a:chExt cx="792360" cy="2426400"/>
          </a:xfrm>
        </p:grpSpPr>
        <p:pic>
          <p:nvPicPr>
            <p:cNvPr id="222" name="Picture 3" descr="C:\Users\Ave\AppData\Local\Microsoft\Windows\Temporary Internet Files\Content.IE5\UTNB92G0\MC900297943[1].wmf"/>
            <p:cNvPicPr/>
            <p:nvPr/>
          </p:nvPicPr>
          <p:blipFill>
            <a:blip r:embed="rId2"/>
            <a:stretch/>
          </p:blipFill>
          <p:spPr>
            <a:xfrm>
              <a:off x="1112760" y="4495680"/>
              <a:ext cx="792360" cy="183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Box 6"/>
            <p:cNvSpPr/>
            <p:nvPr/>
          </p:nvSpPr>
          <p:spPr>
            <a:xfrm>
              <a:off x="1148400" y="65538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Group 12"/>
          <p:cNvGrpSpPr/>
          <p:nvPr/>
        </p:nvGrpSpPr>
        <p:grpSpPr>
          <a:xfrm>
            <a:off x="7162920" y="4586400"/>
            <a:ext cx="761760" cy="2346840"/>
            <a:chOff x="7162920" y="4586400"/>
            <a:chExt cx="761760" cy="2346840"/>
          </a:xfrm>
        </p:grpSpPr>
        <p:pic>
          <p:nvPicPr>
            <p:cNvPr id="225" name="Picture 2" descr="C:\Users\Ave\AppData\Local\Microsoft\Windows\Temporary Internet Files\Content.IE5\U4IC10Y6\MC900297939[1].wmf"/>
            <p:cNvPicPr/>
            <p:nvPr/>
          </p:nvPicPr>
          <p:blipFill>
            <a:blip r:embed="rId3"/>
            <a:stretch/>
          </p:blipFill>
          <p:spPr>
            <a:xfrm>
              <a:off x="7162920" y="4586400"/>
              <a:ext cx="761760" cy="182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Box 8"/>
            <p:cNvSpPr/>
            <p:nvPr/>
          </p:nvSpPr>
          <p:spPr>
            <a:xfrm>
              <a:off x="7242840" y="65649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7" name="Picture 13" descr="C:\Users\Ave\AppData\Local\Microsoft\Windows\Temporary Internet Files\Content.IE5\U79NZCBF\MP900438719[1].jpg"/>
          <p:cNvPicPr/>
          <p:nvPr/>
        </p:nvPicPr>
        <p:blipFill>
          <a:blip r:embed="rId4"/>
          <a:srcRect l="0" t="23339" r="0" b="11669"/>
          <a:stretch/>
        </p:blipFill>
        <p:spPr>
          <a:xfrm>
            <a:off x="2286000" y="1447920"/>
            <a:ext cx="4572000" cy="2971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4" descr="C:\Users\Ave\AppData\Local\Microsoft\Windows\Temporary Internet Files\Content.IE5\PP4PXAT2\MP900401130[1].jpg"/>
          <p:cNvPicPr/>
          <p:nvPr/>
        </p:nvPicPr>
        <p:blipFill>
          <a:blip r:embed="rId5"/>
          <a:stretch/>
        </p:blipFill>
        <p:spPr>
          <a:xfrm>
            <a:off x="3324240" y="1868400"/>
            <a:ext cx="2495520" cy="312120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10"/>
          <p:cNvGrpSpPr/>
          <p:nvPr/>
        </p:nvGrpSpPr>
        <p:grpSpPr>
          <a:xfrm>
            <a:off x="4038480" y="4572000"/>
            <a:ext cx="794160" cy="2350080"/>
            <a:chOff x="4038480" y="4572000"/>
            <a:chExt cx="794160" cy="2350080"/>
          </a:xfrm>
        </p:grpSpPr>
        <p:pic>
          <p:nvPicPr>
            <p:cNvPr id="230" name="Picture 4" descr="C:\Users\Ave\AppData\Local\Microsoft\Windows\Temporary Internet Files\Content.IE5\U79NZCBF\MC900297941[1].wmf"/>
            <p:cNvPicPr/>
            <p:nvPr/>
          </p:nvPicPr>
          <p:blipFill>
            <a:blip r:embed="rId6"/>
            <a:stretch/>
          </p:blipFill>
          <p:spPr>
            <a:xfrm>
              <a:off x="4038480" y="4572000"/>
              <a:ext cx="794160" cy="181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7"/>
            <p:cNvSpPr/>
            <p:nvPr/>
          </p:nvSpPr>
          <p:spPr>
            <a:xfrm>
              <a:off x="4044960" y="655380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7T03:08:24Z</dcterms:created>
  <dc:creator>Candace</dc:creator>
  <dc:description/>
  <dc:language>en-US</dc:language>
  <cp:lastModifiedBy>ajack</cp:lastModifiedBy>
  <dcterms:modified xsi:type="dcterms:W3CDTF">2010-07-18T19:00:50Z</dcterms:modified>
  <cp:revision>52</cp:revision>
  <dc:subject/>
  <dc:title>Matter</dc:title>
</cp:coreProperties>
</file>